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6AE95-BD30-444A-B0D4-87A3FAC81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37CD9-F9ED-45A2-B2E5-E1F1EB37C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F9F7F-68BF-4DB9-82FB-9A66498E8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E8C72-37C8-4103-86E7-49C1934D5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01645-42AE-42D2-A011-48168027D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BAF7C-6562-4923-A609-E5C3C2F96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88C12-7C25-4237-9B1C-4DE38EF39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D6CBF-92A6-4F91-AFC4-4DDEDA1DB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AC32E-1BA2-49AC-9975-7A64BDAC9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0E893-2F06-4C85-90B2-DADFD5594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0598B-3280-4DED-A658-35D665BC9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D716A-EB80-4F1F-9313-518B9E064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FE831-BCF0-43E8-B8B1-73D23AE2BC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Sin%20título-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Sin%20título-1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Sin%20título-1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Sin%20título-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Sin%20título-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Sin%20título-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Sin%20título-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Sin%20título-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Sin%20título-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Sin%20título-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Sin%20título-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3T11:05:35Z</dcterms:created>
  <dc:creator>Grupo Editorial</dc:creator>
  <dc:description/>
  <dc:language>en-US</dc:language>
  <cp:lastModifiedBy>Grupo Editorial</cp:lastModifiedBy>
  <dcterms:modified xsi:type="dcterms:W3CDTF">2001-11-13T11:08:15Z</dcterms:modified>
  <cp:revision>1</cp:revision>
  <dc:subject/>
  <dc:title>Sin título de diapositiva</dc:title>
</cp:coreProperties>
</file>